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7937D-8AD2-47C9-834A-7EE64A9C1BA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3990B-98A2-4DF2-A994-5FD4F20593CD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6FF-0491-4F3E-ACA4-5AB1A1F2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E77-82AB-4312-9FDB-B2C05B20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43C-8ECE-443B-B375-74A77B9D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D20-5EC4-4456-B75F-4EEE04D5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87FB-4576-4720-8DD8-A98AB219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A29F-802A-483B-81DA-A35580C7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F935-7665-447F-BF14-562175C8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6DB4-CF39-44ED-9F5C-1BD6CEE8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03C9-E074-42E4-BB5E-FD6D39D2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F138-58BC-4312-8B9B-8B1A5C5D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DA58-E446-42E2-8367-09D44C5C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0C3-8D9C-49DA-ACE7-F928B79C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49AD-51FD-4340-B2CF-8512837B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C2E6-9C95-4648-8B8F-56D28A4A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D97C-9FFD-4ECA-8E66-090A5947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C8D7-4DA6-4D05-B08C-B44FC8E4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77CF-CDB6-431A-87DD-DB028AF6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2135-B3FD-4DDB-8E81-F3757E8E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1F9C0-09DF-426B-AF2C-D341EB6D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735E-C927-4E2E-8230-55F217E2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AB1F-E8E2-4A39-8CA6-B2481251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3A33-1D01-4C31-9AED-5F941A8D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663-636F-4F88-9577-4A3D364A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B829-2ABF-4752-B14A-AC67D7C2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E857-C21D-4513-8DA4-A0D5971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A71AE-66E3-44ED-81AB-F63107BE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3A9E-35D3-4EF3-B5EC-A8E16473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A7C3-B24E-477F-862C-F38E7A90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0889-96A4-41A7-B9F4-BF70DB68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D0FB-6165-40C3-A463-940E55A6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6EE64-39DF-4E9E-93A4-4E6A28B5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EE397-6FA5-461C-9A45-0B983A5C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344B-3350-4117-835B-DC707B6C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872-0787-4A63-A537-50331081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EBBF-81BE-4B41-BC86-1DDB6E3C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15BA-7E27-458F-BF66-AE75BC43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48BC6-5D34-4BA8-911D-120E258A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BFBAC-0612-4EB5-9336-5A40CCF9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E609-94F7-4A78-824E-A1AF1171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0645-8EB5-419C-A20A-2DBA17CB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7356-1FC3-4010-9043-E6C35507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754A2-B3EE-45BE-9E17-BD93B0EE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4EC06-A4C4-47BE-B8B0-E442539E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17927-ABCE-4BF1-B371-667BDB84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B29-3988-423A-8422-A8652CC8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DE32A-A210-4F4F-A07B-B72EE6C4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641BC-856A-4BA3-9D6D-38933640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6FC91-AD7D-4909-A944-C1978151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7B2A6-B5E3-40F3-AE35-E768E0D2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66661-DFF7-4490-A958-6C3A5BED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56FF1-4C99-4E60-9B7D-A4945407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5B894-8B80-4BBA-9113-F7305FEA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A0FB5-23DD-4CF8-9047-51E0CE21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F2C8A-E574-4383-84B0-C38080A5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D344D-AC5F-4112-B10D-2B4FE1B0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604-1BB2-4230-B8F6-448A02DC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4F41D-AAA3-4886-A342-65E6C134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6F9B2-585F-46E6-BB2C-95F37C17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06C3A-48B9-479A-9F4F-710FAC64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7DCF3-14D9-44C6-A11F-242421FA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9AB94-B929-4B6A-9CFE-7D992FBD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0A7F5-2B46-4EE5-9F07-7A918C61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28E01-B267-44D3-9F0F-B6A42AE1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4A4C6-D704-4BA3-A107-4C40DC73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A24B8-B0F0-4798-AF96-2FCC8C1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35986-69F1-4CDF-BEAF-F242A60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CF8-3BFD-429F-A396-CEAFDA27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1DCDE-5C3A-4D05-B267-75117C86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B93D2-3F75-4096-805D-7C56EFD5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C130-3683-4BEC-BF6B-C8A71856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1AA96-6B71-4A8B-8855-64307223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0000-1C85-4622-A9F0-E30BEDA1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8091A-28CE-4D6E-B6CC-090273AE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75E53-AB0D-4DE6-A1A9-2CE5B742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6934D-D913-4C6B-99A8-F5DC1C8B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2A43C-068A-4858-9553-0A3309BA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0AC53-0CDA-4EB0-A637-6277CB02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B71-2577-4752-AC5C-61E7368D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2DD29-0FB7-4B1A-A8B3-68B84BC0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98653-B5CC-44C5-BEFB-98B9D16A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7C318-25E6-4A2B-8C11-29D68620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B7AF5-1764-46CD-81C1-60F0AC00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B8034-29D2-4669-9D2D-F06408F1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44D-F71D-4051-A8FE-2A2AB0AC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75FDD-1DBD-4E99-AA05-1E6B3C885E9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99922-1A28-4473-8357-B58C95E93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CF017-E4DA-4A21-A7E2-DE23D73244C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EF1CD-BC8A-42C9-A2A3-C75078918FA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7DE7B-F563-4B53-AD19-D8287D79C30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1689F-82A4-46B3-9462-53A1FFAF2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330ED-D3BD-429E-9D1D-03FEE23707B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F7547-8881-4015-A695-1ECC81BF7A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1FF1A-931D-4474-977E-52A7C762FC6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D8301-634E-4DA2-8891-12D7EFD4A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3C56D-2A22-4B58-8C95-BF51AA296932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8C691-EA65-4EBF-AD17-199FC2C5EF7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39EE0-137F-419D-8470-513444BE3DF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0519C-4F34-4AAC-B388-0B0C7C872B9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highered.mcgraw-hill.com/olc/dl/120076/micro04.swf" TargetMode="External"/><Relationship Id="rId3" Type="http://schemas.openxmlformats.org/officeDocument/2006/relationships/hyperlink" Target="http://highered.mcgraw-hill.com/olc/dl/120076/bio23.swf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youtube.com/watch?v=dIZpb93NYlw" TargetMode="External"/><Relationship Id="rId3" Type="http://schemas.openxmlformats.org/officeDocument/2006/relationships/hyperlink" Target="http://www.explorelearning.com/index.cfm?method=cResource.dspDetail&amp;ResourceID=439" TargetMode="Externa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wiley.com/college/pratt/0471393878/student/animations/dna_replication/index.html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dnai.org/timeline/index.html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ZGHkHMoyC5I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/dl/120076/bio22.swf" TargetMode="External"/><Relationship Id="rId2" Type="http://schemas.openxmlformats.org/officeDocument/2006/relationships/hyperlink" Target="http://www.sumanasinc.com/webcontent/animations/content/meselson.html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3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4236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Title 3" descr=""/>
          <p:cNvPicPr/>
          <p:nvPr/>
        </p:nvPicPr>
        <p:blipFill>
          <a:blip r:embed="rId2"/>
          <a:stretch/>
        </p:blipFill>
        <p:spPr>
          <a:xfrm>
            <a:off x="689040" y="2389320"/>
            <a:ext cx="8229600" cy="1487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3"/>
          <a:stretch/>
        </p:blipFill>
        <p:spPr>
          <a:xfrm rot="2214000">
            <a:off x="1258560" y="3200040"/>
            <a:ext cx="36320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Key Enzymes: DNA Helicase, Single Stranded Binding Proteins (SSBs), DNA Gyr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Replication Fork vs. Replication Bubb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2"/>
          <a:stretch/>
        </p:blipFill>
        <p:spPr>
          <a:xfrm>
            <a:off x="546120" y="3800520"/>
            <a:ext cx="3510000" cy="2930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3"/>
          <a:stretch/>
        </p:blipFill>
        <p:spPr>
          <a:xfrm>
            <a:off x="4538520" y="3843360"/>
            <a:ext cx="425952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453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Key Enzymes: DNA Polymerase I and III, Primase, DNA Ligas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Key Terms: RNA Primers, Leading and Lagging Strands, Okazaki Fragm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911160" y="3067200"/>
            <a:ext cx="7220160" cy="36846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5"/>
          <p:cNvSpPr/>
          <p:nvPr/>
        </p:nvSpPr>
        <p:spPr>
          <a:xfrm>
            <a:off x="942840" y="3078000"/>
            <a:ext cx="4797720" cy="68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5740560" y="3078000"/>
            <a:ext cx="1144440" cy="347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38744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Synthesis of Lagging Stran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1395360" y="1884240"/>
            <a:ext cx="63500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322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Key Enzymes: DNA polymerase I and III act as exonuc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2681280" y="2316240"/>
            <a:ext cx="35323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 students will be shown animati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highered.mcgraw-hill.com/olc/dl/120076/micro04.swf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http://highered.mcgraw-hill.com/olc/dl/120076/bio23.swf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Whole-Class Replication Role-Pla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entury Gothic"/>
              </a:rPr>
              <a:t>Each student acts as a nucleotide. Hands are used to form bonds. (Explained fully in summary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1) Visual: Students will make a sketch or diagram of the process of DNA replication. (K/I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2) Musical: Students will listen to the DNA replication song and write another verse for the song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youtube.com/watch?v=dIZpb93NYlw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3) Kinesthetic: Students will design an explanation for DNA replication using body/hand actions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4) Linguistic: Students will imagine being a DNA molecule and write a story explaining how they are copied. (K/I/C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5) Intrapersonal: Students will write explaining what they found to be fascinating about DNA replication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6) Interpersonal: Students will explain their understanding of DNA replication to their partners. (K/I/C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7) Logical: Students will perform the DNA replication gizmo at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http://www.explorelearning.com/index.cfm?method=cResource.dspDetail&amp;ResourceID=439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Students will be given a copy of the ‘Student Exploration Sheet’ found on the website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Summative Assessment will take place at the end of the genetics unit in the form of a Unit Tes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4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759440" cy="14018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4520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find it difficult to understand the procedure and conclusions of the Meselson and Stahl experimen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Explain each step in detail using illustrations and drawing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have a difficult time visualizing the concept of DNA replicatio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Show the animations multiple time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have difficulty keeping track of all the enzymes involved in replicatio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Create a word wall with all the important term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get confused about the lagging strand replicatio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Emphasize that DNA strands are antiparallel and DNA polymerase III synthesizes only in the 5’ to 3’ direction.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following tutorial can be used to reiterate concepts:</a:t>
            </a:r>
            <a:br>
              <a:rPr sz="1900"/>
            </a:br>
            <a:r>
              <a:rPr b="0" lang="en-CA" sz="19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wiley.com/college/pratt/0471393878/student/animations/dna_replication/index.htm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89000" y="255600"/>
            <a:ext cx="7424640" cy="939960"/>
          </a:xfrm>
          <a:prstGeom prst="rect">
            <a:avLst/>
          </a:prstGeom>
          <a:ln w="0">
            <a:noFill/>
          </a:ln>
        </p:spPr>
      </p:pic>
      <p:pic>
        <p:nvPicPr>
          <p:cNvPr id="358" name="Subtitle 2" descr=""/>
          <p:cNvPicPr/>
          <p:nvPr/>
        </p:nvPicPr>
        <p:blipFill>
          <a:blip r:embed="rId2"/>
          <a:stretch/>
        </p:blipFill>
        <p:spPr>
          <a:xfrm>
            <a:off x="49320" y="1255680"/>
            <a:ext cx="83628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Model building, role play and animations will help the entire class including ELL and special needs students to visualize the abstract structure of DN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Posting a word wall with the new vocabulary related to DNA structure and replication process will help the ELLs and special need students in writing task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Extra attention and time will be given to ELLs and special needs students during classroom discussions and in computer lab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Peer assistant will be encouraged in the classroom assignments by heterogeneous grouping of students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itle 1"/>
          <p:cNvSpPr/>
          <p:nvPr/>
        </p:nvSpPr>
        <p:spPr>
          <a:xfrm>
            <a:off x="333360" y="571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Title 5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45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DNA analysis can be used t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Solve crimes  (homicid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Identify human remains (missing persons, disaster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Determine relationship between family members (paternity, child abduction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Medical Research (genetic diseases, drug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Agriculture and Horticulture (genetically modified organism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Animal Husbandry (genetically modified animal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708120" y="1375920"/>
            <a:ext cx="3835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We have seen detectives on TV and movies getting excited about finding hair or skin or other body cells on the crime scene. Why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Exactly the same DNA is contained in every single cell in our bodies! Have you ever wondered how that is possible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ells are capable of giving rise to a new generation of cells by undergoing DNA replication and cell division.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 We are going to study how DNA is replicated so that each new cell gets the same copy in its nucleu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8" descr=""/>
          <p:cNvPicPr/>
          <p:nvPr/>
        </p:nvPicPr>
        <p:blipFill>
          <a:blip r:embed="rId2"/>
          <a:srcRect l="6002" t="0" r="15465" b="0"/>
          <a:stretch/>
        </p:blipFill>
        <p:spPr>
          <a:xfrm>
            <a:off x="4781520" y="1535040"/>
            <a:ext cx="3113280" cy="3995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3"/>
          <a:stretch/>
        </p:blipFill>
        <p:spPr>
          <a:xfrm>
            <a:off x="7894800" y="2247840"/>
            <a:ext cx="666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212760" y="133200"/>
            <a:ext cx="927000" cy="6578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142640" y="150840"/>
            <a:ext cx="7334280" cy="640224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omson Nelson Limited. (2003). </a:t>
            </a:r>
            <a:r>
              <a:rPr b="0" i="1" lang="en-US" sz="1400" spc="-1" strike="noStrike">
                <a:solidFill>
                  <a:srgbClr val="ffffff"/>
                </a:solidFill>
                <a:latin typeface="Century Gothic"/>
              </a:rPr>
              <a:t>Biology 12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. Toronto, Ontario: Author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textbook was the source for background information and was also used for organizing the lessons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accessexcellence.org/RC/AB/WYW/wkbooks/SFTS/activity2.php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website was used to form Activity # 1 that is used in reviewing DNA composition and structure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highered.mcgraw-hill.com/olc/dl/120076/bio22.sw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animation was used to explain the Meselson and Stahl Experimen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sumanasinc.com/webcontent/animations/content/meselson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virtual lab was used as assessment for the Meselson and Stahl Experimen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highered.mcgraw-hill.com/olc/dl/120076/micro04.sw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highered.mcgraw-hill.com/olc/dl/120076/bio23.sw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ese animations were used in summarizing DNA Replicatio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youtube.com/watch?v=dIZpb93NYlw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video shows the DNA replication song that was part of assessmen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explorelearning.com/index.cfm?method=cResource.dspDetail&amp;ResourceID=439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gizmo was used as an assessment tool at the end of the lessons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wiley.com/college/pratt/0471393878/student/animations/dna_replication/index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tutorial was used to clear any student misconceptions and reiterate the whole process of DNA replicatio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717120" y="1447560"/>
            <a:ext cx="79693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1: Discovery of DNA: A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cientists and experiments leading to the discovery of D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2: DNA Structure:  A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Chemical Composition of DNA, The Double Helix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3: DNA Replicates Semi-Conservative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eselson and Stahl Experim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4: The Process of DNA Replica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parating the DNA Strands, Building the Complementary Strands, DNA Repa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5: Assessm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7443720" cy="1371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6813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 u="sng">
                <a:solidFill>
                  <a:srgbClr val="ffffff"/>
                </a:solidFill>
                <a:uFillTx/>
                <a:latin typeface="Century Gothic"/>
              </a:rPr>
              <a:t>Overall Expectation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2. investigate, through laboratory activities, the structures of cell components and their roles in processes that occur within the cell;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3. demonstrate an understanding of concepts related to molecular genetics, and how genetic modification is applied in industry and agriculture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 u="sng">
                <a:solidFill>
                  <a:srgbClr val="ffffff"/>
                </a:solidFill>
                <a:uFillTx/>
                <a:latin typeface="Century Gothic"/>
              </a:rPr>
              <a:t>Specific Expectation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2.2 analyse a simulated strand of DNA to determin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the genetic code and base pairing of DNA (e.g., determine base sequences of DNA for a protein; analyse base sequences in DNA to recognize an anomaly) [AI]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3.1 explain the current model of DNA replication, and describe the different repair mechanisms that can correct mistakes in DNA sequencing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413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2002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Scientists such as Hammerling, Griffith, Hershey and Chase, Chargaff, Franklin and Wilkins, Watson and Crick conducted experiments that led to better understanding of DNA and its structure. Slides with </a:t>
            </a:r>
            <a:r>
              <a:rPr b="1" lang="en-CA" sz="3000" spc="-1" strike="noStrike">
                <a:solidFill>
                  <a:srgbClr val="ffffff"/>
                </a:solidFill>
                <a:latin typeface="Century Gothic"/>
              </a:rPr>
              <a:t>M/C questions and clickers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may be used to review this information with the student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Students complete a DNA timeline scavenger hunt 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64640" indent="-26568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dnai.org/timeline/index.htm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66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udents are shown the following vide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youtube.com/watch?v=ZGHkHMoyC5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udents build DNA molecules in pairs (Activity # 1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acher goes over discussion questions with the class. Any gaps in knowledge are filled and misconceptions are correct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3"/>
          <a:stretch/>
        </p:blipFill>
        <p:spPr>
          <a:xfrm>
            <a:off x="2225520" y="4083120"/>
            <a:ext cx="4924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66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34812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is semi-conservative replicatio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 you notic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ased on your knowledge of DNA structure, how do you think this occur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8" descr=""/>
          <p:cNvPicPr/>
          <p:nvPr/>
        </p:nvPicPr>
        <p:blipFill>
          <a:blip r:embed="rId2"/>
          <a:stretch/>
        </p:blipFill>
        <p:spPr>
          <a:xfrm>
            <a:off x="1911240" y="2490840"/>
            <a:ext cx="55911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431200" cy="14572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68912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ypothesi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bjective: Is DNA replication conservative, semi-conservative or dispersiv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2"/>
          <a:srcRect l="0" t="0" r="0" b="30756"/>
          <a:stretch/>
        </p:blipFill>
        <p:spPr>
          <a:xfrm>
            <a:off x="1503360" y="2449440"/>
            <a:ext cx="5608800" cy="21211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6"/>
          <p:cNvSpPr/>
          <p:nvPr/>
        </p:nvSpPr>
        <p:spPr>
          <a:xfrm>
            <a:off x="2120760" y="2065320"/>
            <a:ext cx="17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erva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691080" y="2098800"/>
            <a:ext cx="193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mi-Conserva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5595840" y="2077920"/>
            <a:ext cx="13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pers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20680" y="320760"/>
            <a:ext cx="31622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9c"/>
                </a:solidFill>
                <a:latin typeface="Century Gothic"/>
              </a:rPr>
              <a:t>Meselson and Stahl Experiment (Continued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xperiment explained using overhe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ollowing animation explaining experiment shown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highered.mcgraw-hill.com/olc/dl/120076/bio22.swf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tudents complete the virtual lab and assessed (quiz #1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sumanasinc.com/webcontent/animations/content/meselson.htm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651120" y="320400"/>
            <a:ext cx="527688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2" descr="http://www.nvo.com/jin/nss-folder/scrapbookcell/Meselson1stahl.jpg"/>
          <p:cNvPicPr/>
          <p:nvPr/>
        </p:nvPicPr>
        <p:blipFill>
          <a:blip r:embed="rId3"/>
          <a:stretch/>
        </p:blipFill>
        <p:spPr>
          <a:xfrm>
            <a:off x="365112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0:12:13Z</dcterms:created>
  <dc:creator>Rebecca Lostracco</dc:creator>
  <dc:description/>
  <dc:language>en-US</dc:language>
  <cp:lastModifiedBy>Jess</cp:lastModifiedBy>
  <dcterms:modified xsi:type="dcterms:W3CDTF">2011-11-10T02:39:58Z</dcterms:modified>
  <cp:revision>135</cp:revision>
  <dc:subject/>
  <dc:title>Teaching the Concept of Protein Synthesis Rebecca Lostracco Jacqueline McCann</dc:title>
</cp:coreProperties>
</file>